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5C5-6266-4987-825D-48CEC551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BB03-A910-4960-AEEB-2538806E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45C-FB67-444F-A42C-063DDD43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A80D-8528-4DD6-85A5-C31C91B9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EFA3-69B4-4451-B5E5-1231E0E5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1D29-3F28-4306-9518-7ECDB767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F2D9-C1A3-4C06-9186-936E8348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E5D6-7161-4846-BAFE-D0DC2A73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2B49-A422-4FC5-8711-891F87D1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BB36-7D97-4004-8D47-3807AC3D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5462-92F2-4413-95DA-71C322D9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CEA-1ECC-4287-8EBB-084B543D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58F4-692D-4DF2-B51A-E498ABCE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9795-9B72-4850-BE6A-1FFB41DD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8A5D-79F7-4DD5-B334-731A05B7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3F95-5756-4718-9487-950944CD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A99B-A462-45E1-9AED-7E513D45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A16FD-33C3-4F01-97D9-CDC04E96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D49A6-B144-4676-9650-3F8E905A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D74E2-B1C3-4DCF-85FD-80046FDD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47A3A-FF9F-46D0-845C-E33F0A68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6F683-CBF8-4974-AE24-4E225251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FE60-CC32-4E9A-836E-D74DD282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61696-DA42-4C23-A8B9-6EC82950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94073-F755-41E0-9A80-A6D08D64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0C2D1-D2A4-40AD-BD8B-8CC98243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280EE-BE0A-4461-BDDE-B17A5E80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969E3-EF73-4EA3-A620-1F567F5B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C9CF2-240C-4BC6-A430-78C5FC16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60BE0-4DB3-4EF0-8599-8AEBBDAA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C7E40-B126-4350-90F4-7F5198D1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E5297-8293-4259-89A5-5A591760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2170B-56B9-4E46-9C87-D25AA0CF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227F-3DC6-41B8-91EC-F0E8D19D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69121-099C-4A9C-B739-A4F0C921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35380-6D80-46D4-8F2A-5D3BEB76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5C2EE-90B2-4D3A-952F-03877FE4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FCD47-54BD-45BF-8FB3-B365BFF8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34DDF-4176-4344-9025-A90A8103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038B3-A5C9-40C0-BFE2-6D17A2AB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77451-033B-4B62-9EBB-E4FE3126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AF781-39B8-490D-8E71-BC4F5B84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D410B-33D7-473F-AA6C-2D9A20FE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2374-AE57-4D11-9791-4945A3BC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B932-FBE8-4D1C-9A05-E94BF241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4D3A-C75A-4735-9E38-38A9F102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286-D74F-4DD2-B6CC-6ED154CD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F248-73CB-4528-958A-191AAE41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8990-62A3-4873-B233-D959BE68F90B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AA77-5DE1-4984-A028-FA497D2FDC7D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0347-6A58-4A69-9748-1C268834D7D0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C168-EE00-4116-BB5C-F72CE6FC9AFB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http://therealrevo.com/blog/wp-content/uploads/2009/05/blog20220boiling_frog.jpg"/>
          <p:cNvPicPr/>
          <p:nvPr/>
        </p:nvPicPr>
        <p:blipFill>
          <a:blip r:embed="rId1"/>
          <a:stretch/>
        </p:blipFill>
        <p:spPr>
          <a:xfrm>
            <a:off x="739800" y="0"/>
            <a:ext cx="779472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76160" y="2209680"/>
            <a:ext cx="3313080" cy="170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entury Gothic"/>
              </a:rPr>
              <a:t>Boiling Point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y Doug Leonard, Aaron Blumberg &amp; Joanna Anninos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04560" y="3805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anometer vs. Baromet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TextBox 3"/>
          <p:cNvSpPr/>
          <p:nvPr/>
        </p:nvSpPr>
        <p:spPr>
          <a:xfrm>
            <a:off x="228600" y="1752480"/>
            <a:ext cx="86868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nometer- measures vapor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buClr>
                <a:srgbClr val="000000"/>
              </a:buClr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apor pressure- force exerted by gas above 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arometer- measures atmospher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buClr>
                <a:srgbClr val="000000"/>
              </a:buClr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tmospheric pressure- force exerted on objects by the weight of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oiling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eating allows more particles at the liquids surface  to overcome the attractive forces that keep it in a liquid stat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emaining particles in liquid speed up as they absorb added energ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verage kinetic energy of particles increas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emperature of liquid increas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2" name="Picture 4" descr="C:\Users\Peter\AppData\Local\Microsoft\Windows\Temporary Internet Files\Content.IE5\EBU42KEN\MM900174023[1].gif"/>
          <p:cNvPicPr/>
          <p:nvPr/>
        </p:nvPicPr>
        <p:blipFill>
          <a:blip r:embed="rId1"/>
          <a:stretch/>
        </p:blipFill>
        <p:spPr>
          <a:xfrm>
            <a:off x="7010280" y="5151600"/>
            <a:ext cx="1676520" cy="14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5331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oiling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iquid boils when the particles are heated to a certain temperature, at which they have enough kinetic energy to vaporiz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Vapor bubbles form, rise, and escap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5" name="Picture 4" descr="C:\Users\Peter\AppData\Local\Microsoft\Windows\Temporary Internet Files\Content.IE5\EBU42KEN\MM900174023[1].gif"/>
          <p:cNvPicPr/>
          <p:nvPr/>
        </p:nvPicPr>
        <p:blipFill>
          <a:blip r:embed="rId1"/>
          <a:stretch/>
        </p:blipFill>
        <p:spPr>
          <a:xfrm>
            <a:off x="7008840" y="5149800"/>
            <a:ext cx="167796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oiling Point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Boiling Poin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emperature at which the vapor pressure of liquid is equal to external pressure on the liquid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Normal Boiling Poin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iquid at a pressure of 101.3kPa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x. Water = 100˚C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8" name="Picture 5" descr="C:\Users\Peter\AppData\Local\Microsoft\Windows\Temporary Internet Files\Content.IE5\EBU42KEN\MM900174023[1].gif"/>
          <p:cNvPicPr/>
          <p:nvPr/>
        </p:nvPicPr>
        <p:blipFill>
          <a:blip r:embed="rId1"/>
          <a:stretch/>
        </p:blipFill>
        <p:spPr>
          <a:xfrm>
            <a:off x="7008840" y="5149800"/>
            <a:ext cx="167796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7:46:47Z</dcterms:created>
  <dc:creator>14ablumberg</dc:creator>
  <dc:description/>
  <dc:language>en-US</dc:language>
  <cp:lastModifiedBy>udsd</cp:lastModifiedBy>
  <dcterms:modified xsi:type="dcterms:W3CDTF">2012-04-27T14:41:43Z</dcterms:modified>
  <cp:revision>13</cp:revision>
  <dc:subject/>
  <dc:title>Boiling Point</dc:title>
</cp:coreProperties>
</file>